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F5A-9829-458E-A905-C2CFE8F1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AA2-90F0-4CE0-8738-1EB84076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7B9-965F-49A3-8AC4-7FC4416D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9FE-3A60-4AA7-8F01-4DB020DD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E08-FDCD-43EC-BF74-D681389C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10F-70D6-43B7-997B-A062EDA0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ED1-EB63-4D40-A7E3-E5B9ADF6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319-C6B4-4737-9A48-9ADBAB14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EE8-FC17-47DD-BF76-AE47974C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631-0EAE-4290-880D-BC701017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135-B4EA-474A-98CB-BF120BA9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992-31DB-41E6-8018-6E592DE8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E3ED-CF17-4694-851C-1CC84D205E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6960" y="115920"/>
            <a:ext cx="8656560" cy="2395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0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</a:rPr>
              <a:t>ВЫПОЛНИЛА УЧЕНИЦА 5 КЛАССА </a:t>
            </a:r>
            <a:r>
              <a:rPr b="0" lang="ru-RU" sz="4500" spc="-1" strike="noStrike">
                <a:solidFill>
                  <a:srgbClr val="0d0d0d"/>
                </a:solidFill>
                <a:latin typeface="Times New Roman"/>
              </a:rPr>
              <a:t>Г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</a:rPr>
              <a:t>АБОВА </a:t>
            </a:r>
            <a:r>
              <a:rPr b="0" lang="ru-RU" sz="4500" spc="-1" strike="noStrike">
                <a:solidFill>
                  <a:srgbClr val="0d0d0d"/>
                </a:solidFill>
                <a:latin typeface="Times New Roman"/>
              </a:rPr>
              <a:t>Т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</a:rPr>
              <a:t>АМА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143000" y="6143760"/>
            <a:ext cx="65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ЫКТЫВКАР  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594640" cy="1280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ЛЕНЕНИЕ ТЕЛА ПЛЕНЯЕТ ДУШУ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Содержимое 5" descr="random_walls.capa.ru.003.jpg"/>
          <p:cNvPicPr/>
          <p:nvPr/>
        </p:nvPicPr>
        <p:blipFill>
          <a:blip r:embed="rId2"/>
          <a:stretch/>
        </p:blipFill>
        <p:spPr>
          <a:xfrm>
            <a:off x="1785960" y="3429000"/>
            <a:ext cx="5411880" cy="2906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420840" y="255600"/>
            <a:ext cx="8296200" cy="1171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Контраст - это резкая противоположность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. н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олстой делает характеры своих героев контрастными , то есть противоположными. Даже основную идею рассказа можно представить в виде контраста : война и вражда разъединяет людей , как татар и русских, а соединяет людей – чувство доброты , милосердия , уважения к другому человеку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262080" y="19080"/>
            <a:ext cx="8772480" cy="149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РПЕЛИВ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АБР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СТ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КОЙ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ИТР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ДОЛЮБИВ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РАЗИТЕЛЬ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АТЕЛЬ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ТЕР НА ВСЕ РУ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random_walls.capa.ru.003.jpg"/>
          <p:cNvPicPr/>
          <p:nvPr/>
        </p:nvPicPr>
        <p:blipFill>
          <a:blip r:embed="rId2"/>
          <a:stretch/>
        </p:blipFill>
        <p:spPr>
          <a:xfrm>
            <a:off x="5929200" y="2000160"/>
            <a:ext cx="2286000" cy="3714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20840" y="103320"/>
            <a:ext cx="8242200" cy="149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СЛИВ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Б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АТЕЛЬ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Б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ЕРЯН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УКЛЮЖ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3" descr="1259100496_i4a673356b1eaf[1].jpg"/>
          <p:cNvPicPr/>
          <p:nvPr/>
        </p:nvPicPr>
        <p:blipFill>
          <a:blip r:embed="rId2"/>
          <a:stretch/>
        </p:blipFill>
        <p:spPr>
          <a:xfrm>
            <a:off x="4929120" y="2071800"/>
            <a:ext cx="3165480" cy="3600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315280" cy="1280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ЛИН НЕ ОБОЗЛИЛСЯ НА СВОЕГО СПУТНИКА,ЧТО ТОТ ОТ СТРАХА БРОСИЛ ЕГО В ТРУДНЫЙ МОМЕНТ,А ИСКРЕННЕ ПОМОГАЛ И ПОДДЕРЖИВАЛ В ТЯЖЁЛЫХ УСЛОВИЯХ ПЛЕНА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ЛЮБОГО НАРОДА В ПОЧЁТЕ ХРАБРОСТЬ,СМЕЛОСТЬ ,УМЕНИЕ СОХРАНИТЬ СВОЮ ЧЕСТЬ,ДАЖЕ ЕСЛИ ЧЕЛОВЕК НАХОДИТСЯ В СТАНЕ ВРАГ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ЫЛИН ЖЕ ПРОЯВИЛ СЛАБОХАРАКТЕРНОСТЬ,ВЕЛ СЕБЯ НЕУВЕРЕННО, ПОСТУПАЛ ПРИДАТЕЛЬСКИ  И НЕОСМОТРИТЕЛЬНО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МИЛИИ ГЕРОЕВ НАХОДЯТСЯ КАК БЫ В ПАРЕ,ДАЖЕ РИФМУЮТСЯ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ЛА-ПРОЧНОЕ ОКОНЧАНИЕ МЫШЦ,ОТСЮДА СЛОВА «ЖИЛИСТЫЙ», «ДВУЖИЛЬНЫЙ»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 ГОВОРЯТ О ВЫНОСЛИВОМ,КРЕПКОМ ЧЕЛОВЕКЕ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 РАЗ ТАКИМ И ЯВЛЯЕТСЯ ЖИЛИН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ОСТЫЛЬ-ЭТО ПАЛКА ДЛЯ ХРОМЫХ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ЫЛИН НЕ МОЖЕТ БЕЗ ОПОРЫ И ПОДДЕРЖКИ,ОН СЛАБЫЙ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 АВТОР С ПОМОЩЬЮ ФАМИЛИЙ ДАЁТ ГЕРОЯМ ДОПОЛНИТЕЛЬНЫЕ ХАРАКТЕРИСТИКИ И ВЫРОЖАЕТ СВОЁ ОТНОШЕНИЕ К ГЕРО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431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http://chugreev.ru/chaldini/contras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http://www.lit100.ru/text.php?t=111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http://www.rvb.ru/tolstoy/01text/vol_10/01text/0243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http://festival.1september.ru/articles/557006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http://www.rvb.ru/tolstoy/01text/vol_10/01text/0243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31:25Z</dcterms:created>
  <dc:creator>я</dc:creator>
  <dc:description/>
  <dc:language>en-US</dc:language>
  <cp:lastModifiedBy>я</cp:lastModifiedBy>
  <dcterms:modified xsi:type="dcterms:W3CDTF">2010-04-28T06:13:03Z</dcterms:modified>
  <cp:revision>33</cp:revision>
  <dc:subject/>
  <dc:title>Слайд 1</dc:title>
</cp:coreProperties>
</file>